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9ACF-99AE-481F-99CB-DA61CC634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&amp;M department implements a “replace as needed” program, it means a parts or equipment replacement plan that delays installing a new, substitute part until the original part fails or is in near failure; on the other hand, a “total replacement” program involves a parts or equipment replacement plan that involves installing new or substitute parts based on a predetermined schedu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preventative maintenance should not be viewed as a repair program; repairs should be done as they are needed, while PM activities should be preformed as schedu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M program should identify what is to be done, when it is to be done, how it is to be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ranchisers offer many excellent checklists and suggested activities developed for the E&amp;M department, free of charge to its franchisees.  The Chief Engineer may use those checklists and suggested activities for planning the hotel maintenance activities and schedu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durable finishes and high-quality, long-life equipment may have higher purchase prices, but will generally reduce POM related expenditures over the 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building ages, its maintenance challenges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&amp;E Reserve is funds set aside by management today for future furniture, fixture, and equipment replacement needs of a hot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, FF&amp;E reserves should average 2 - 4 % of a hotel’s gross sales reven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ffective chief engineer should have the ability to determine which tasks are best performed by in-house E&amp;M staff rather than being contracted to outside vend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what factors would influence most their decision to select an outside vendor for the lawn and landscap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acility Engineering &amp;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380880"/>
            <a:ext cx="8915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23"/>
          <p:cNvGrpSpPr/>
          <p:nvPr/>
        </p:nvGrpSpPr>
        <p:grpSpPr>
          <a:xfrm>
            <a:off x="177840" y="2266920"/>
            <a:ext cx="1752480" cy="1390680"/>
            <a:chOff x="177840" y="2266920"/>
            <a:chExt cx="1752480" cy="1390680"/>
          </a:xfrm>
        </p:grpSpPr>
        <p:sp>
          <p:nvSpPr>
            <p:cNvPr id="163" name="Rectangle 3"/>
            <p:cNvSpPr/>
            <p:nvPr/>
          </p:nvSpPr>
          <p:spPr>
            <a:xfrm>
              <a:off x="228600" y="2266920"/>
              <a:ext cx="1655640" cy="1390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4"/>
            <p:cNvSpPr/>
            <p:nvPr/>
          </p:nvSpPr>
          <p:spPr>
            <a:xfrm>
              <a:off x="177840" y="2587680"/>
              <a:ext cx="17524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place as needed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26"/>
          <p:cNvGrpSpPr/>
          <p:nvPr/>
        </p:nvGrpSpPr>
        <p:grpSpPr>
          <a:xfrm>
            <a:off x="1219320" y="2266920"/>
            <a:ext cx="7924680" cy="1490760"/>
            <a:chOff x="1219320" y="2266920"/>
            <a:chExt cx="7924680" cy="1490760"/>
          </a:xfrm>
        </p:grpSpPr>
        <p:sp>
          <p:nvSpPr>
            <p:cNvPr id="166" name="Text Box 5"/>
            <p:cNvSpPr/>
            <p:nvPr/>
          </p:nvSpPr>
          <p:spPr>
            <a:xfrm>
              <a:off x="1219320" y="330048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1981080" y="2266920"/>
              <a:ext cx="6705720" cy="1390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7"/>
            <p:cNvSpPr/>
            <p:nvPr/>
          </p:nvSpPr>
          <p:spPr>
            <a:xfrm>
              <a:off x="2374920" y="2305080"/>
              <a:ext cx="67690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placement plan that delays until the original part fails or is near fail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, maintenance of refrigeration compress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076480" y="239400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070000" y="323856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ext Box 12"/>
          <p:cNvSpPr/>
          <p:nvPr/>
        </p:nvSpPr>
        <p:spPr>
          <a:xfrm>
            <a:off x="343080" y="1562040"/>
            <a:ext cx="499104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ways fo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25"/>
          <p:cNvGrpSpPr/>
          <p:nvPr/>
        </p:nvGrpSpPr>
        <p:grpSpPr>
          <a:xfrm>
            <a:off x="1981080" y="4229280"/>
            <a:ext cx="6705720" cy="1714320"/>
            <a:chOff x="1981080" y="4229280"/>
            <a:chExt cx="6705720" cy="1714320"/>
          </a:xfrm>
        </p:grpSpPr>
        <p:sp>
          <p:nvSpPr>
            <p:cNvPr id="173" name="Rectangle 13"/>
            <p:cNvSpPr/>
            <p:nvPr/>
          </p:nvSpPr>
          <p:spPr>
            <a:xfrm>
              <a:off x="1981080" y="4229280"/>
              <a:ext cx="6705720" cy="1714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2413080" y="4286160"/>
              <a:ext cx="604512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placement is based on a predetermined sche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, maintenance of light bulbs in high-rise exterior highway sig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Picture 1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070000" y="438156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070000" y="512928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24"/>
          <p:cNvGrpSpPr/>
          <p:nvPr/>
        </p:nvGrpSpPr>
        <p:grpSpPr>
          <a:xfrm>
            <a:off x="139680" y="4246560"/>
            <a:ext cx="1860480" cy="1697040"/>
            <a:chOff x="139680" y="4246560"/>
            <a:chExt cx="1860480" cy="1697040"/>
          </a:xfrm>
        </p:grpSpPr>
        <p:sp>
          <p:nvSpPr>
            <p:cNvPr id="178" name="Rectangle 17"/>
            <p:cNvSpPr/>
            <p:nvPr/>
          </p:nvSpPr>
          <p:spPr>
            <a:xfrm>
              <a:off x="228600" y="4246560"/>
              <a:ext cx="1662120" cy="1697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8"/>
            <p:cNvSpPr/>
            <p:nvPr/>
          </p:nvSpPr>
          <p:spPr>
            <a:xfrm>
              <a:off x="139680" y="4457880"/>
              <a:ext cx="186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ystematic total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utine Maintenance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76"/>
          <p:cNvGrpSpPr/>
          <p:nvPr/>
        </p:nvGrpSpPr>
        <p:grpSpPr>
          <a:xfrm>
            <a:off x="457200" y="4800600"/>
            <a:ext cx="8229600" cy="1378080"/>
            <a:chOff x="457200" y="4800600"/>
            <a:chExt cx="8229600" cy="1378080"/>
          </a:xfrm>
        </p:grpSpPr>
        <p:sp>
          <p:nvSpPr>
            <p:cNvPr id="183" name="Rectangle 8"/>
            <p:cNvSpPr/>
            <p:nvPr/>
          </p:nvSpPr>
          <p:spPr>
            <a:xfrm>
              <a:off x="457200" y="4800600"/>
              <a:ext cx="8153280" cy="1371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Picture 1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1228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1"/>
            <p:cNvSpPr/>
            <p:nvPr/>
          </p:nvSpPr>
          <p:spPr>
            <a:xfrm>
              <a:off x="1009800" y="5021280"/>
              <a:ext cx="7677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staff seeing an area of concern can initiate a work 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ief engineer keeps a room-by-room record of replacements or repairs m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6" name="Picture 12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554184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utine Maintenance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57200" y="4572000"/>
            <a:ext cx="36576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well-managed hote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447920"/>
          <a:ext cx="8153280" cy="310824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Waldo Hotel Work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 Order Number: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(Preassigned)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Initiated By: 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: ______________Time: ____________ Room or Location: 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Observed: 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ived On: ____________________ Assigned To: 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Corrected: ___________________ Time Spent: 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&amp;M Employee Comments: 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ef Engineer Comments: 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73"/>
          <p:cNvSpPr/>
          <p:nvPr/>
        </p:nvSpPr>
        <p:spPr>
          <a:xfrm>
            <a:off x="533520" y="1027080"/>
            <a:ext cx="281916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1"/>
          <p:cNvGrpSpPr/>
          <p:nvPr/>
        </p:nvGrpSpPr>
        <p:grpSpPr>
          <a:xfrm>
            <a:off x="266760" y="1752480"/>
            <a:ext cx="8915400" cy="3657600"/>
            <a:chOff x="266760" y="1752480"/>
            <a:chExt cx="8915400" cy="3657600"/>
          </a:xfrm>
        </p:grpSpPr>
        <p:sp>
          <p:nvSpPr>
            <p:cNvPr id="193" name="Rectangle 2"/>
            <p:cNvSpPr/>
            <p:nvPr/>
          </p:nvSpPr>
          <p:spPr>
            <a:xfrm>
              <a:off x="266760" y="1752480"/>
              <a:ext cx="8591400" cy="3657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Picture 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41360" y="22748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7"/>
            <p:cNvSpPr/>
            <p:nvPr/>
          </p:nvSpPr>
          <p:spPr>
            <a:xfrm>
              <a:off x="917640" y="2171880"/>
              <a:ext cx="8264520" cy="30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-term repair costs by prolonging equipment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placement parts costs because purchases of these can be plann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bor costs by allowing PM to be performed in otherwise slow peri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llar amount of refunds and charge-backs due to guest dissatisf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ts of emergency repairs by minimizing their occur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Picture 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41360" y="26668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41360" y="40766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0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441360" y="48387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6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441360" y="335268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3"/>
          <p:cNvSpPr/>
          <p:nvPr/>
        </p:nvSpPr>
        <p:spPr>
          <a:xfrm>
            <a:off x="285840" y="1593720"/>
            <a:ext cx="659124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preventative maintenance can redu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ventative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22"/>
          <p:cNvGrpSpPr/>
          <p:nvPr/>
        </p:nvGrpSpPr>
        <p:grpSpPr>
          <a:xfrm>
            <a:off x="304920" y="5486400"/>
            <a:ext cx="7829280" cy="609480"/>
            <a:chOff x="304920" y="5486400"/>
            <a:chExt cx="7829280" cy="609480"/>
          </a:xfrm>
        </p:grpSpPr>
        <p:sp>
          <p:nvSpPr>
            <p:cNvPr id="203" name="Rectangle 18"/>
            <p:cNvSpPr/>
            <p:nvPr/>
          </p:nvSpPr>
          <p:spPr>
            <a:xfrm>
              <a:off x="304920" y="5486400"/>
              <a:ext cx="4114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9"/>
            <p:cNvSpPr/>
            <p:nvPr/>
          </p:nvSpPr>
          <p:spPr>
            <a:xfrm>
              <a:off x="514440" y="5600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M is not a repair program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ventative Maintenance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361800" y="1066680"/>
            <a:ext cx="659160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ple PM task list for laundry area dr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62"/>
          <p:cNvGrpSpPr/>
          <p:nvPr/>
        </p:nvGrpSpPr>
        <p:grpSpPr>
          <a:xfrm>
            <a:off x="-88920" y="1511280"/>
            <a:ext cx="1752480" cy="1238040"/>
            <a:chOff x="-88920" y="1511280"/>
            <a:chExt cx="1752480" cy="1238040"/>
          </a:xfrm>
        </p:grpSpPr>
        <p:sp>
          <p:nvSpPr>
            <p:cNvPr id="209" name="Rectangle 33"/>
            <p:cNvSpPr/>
            <p:nvPr/>
          </p:nvSpPr>
          <p:spPr>
            <a:xfrm>
              <a:off x="146160" y="1511280"/>
              <a:ext cx="1301760" cy="1238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4"/>
            <p:cNvSpPr/>
            <p:nvPr/>
          </p:nvSpPr>
          <p:spPr>
            <a:xfrm>
              <a:off x="-88920" y="1881000"/>
              <a:ext cx="175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i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67"/>
          <p:cNvGrpSpPr/>
          <p:nvPr/>
        </p:nvGrpSpPr>
        <p:grpSpPr>
          <a:xfrm>
            <a:off x="-88920" y="2819520"/>
            <a:ext cx="1752480" cy="1855800"/>
            <a:chOff x="-88920" y="2819520"/>
            <a:chExt cx="1752480" cy="1855800"/>
          </a:xfrm>
        </p:grpSpPr>
        <p:sp>
          <p:nvSpPr>
            <p:cNvPr id="212" name="Rectangle 41"/>
            <p:cNvSpPr/>
            <p:nvPr/>
          </p:nvSpPr>
          <p:spPr>
            <a:xfrm>
              <a:off x="146160" y="2819520"/>
              <a:ext cx="1301760" cy="185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-88920" y="3646440"/>
              <a:ext cx="175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nth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68"/>
          <p:cNvGrpSpPr/>
          <p:nvPr/>
        </p:nvGrpSpPr>
        <p:grpSpPr>
          <a:xfrm>
            <a:off x="-88920" y="4724280"/>
            <a:ext cx="1752480" cy="1428840"/>
            <a:chOff x="-88920" y="4724280"/>
            <a:chExt cx="1752480" cy="1428840"/>
          </a:xfrm>
        </p:grpSpPr>
        <p:sp>
          <p:nvSpPr>
            <p:cNvPr id="215" name="Rectangle 51"/>
            <p:cNvSpPr/>
            <p:nvPr/>
          </p:nvSpPr>
          <p:spPr>
            <a:xfrm>
              <a:off x="146160" y="4724280"/>
              <a:ext cx="1301760" cy="1428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52"/>
            <p:cNvSpPr/>
            <p:nvPr/>
          </p:nvSpPr>
          <p:spPr>
            <a:xfrm>
              <a:off x="-88920" y="5094360"/>
              <a:ext cx="175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i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65"/>
          <p:cNvGrpSpPr/>
          <p:nvPr/>
        </p:nvGrpSpPr>
        <p:grpSpPr>
          <a:xfrm>
            <a:off x="1562040" y="4724280"/>
            <a:ext cx="7448760" cy="1492200"/>
            <a:chOff x="1562040" y="4724280"/>
            <a:chExt cx="7448760" cy="1492200"/>
          </a:xfrm>
        </p:grpSpPr>
        <p:sp>
          <p:nvSpPr>
            <p:cNvPr id="218" name="Rectangle 53"/>
            <p:cNvSpPr/>
            <p:nvPr/>
          </p:nvSpPr>
          <p:spPr>
            <a:xfrm>
              <a:off x="1562040" y="4724280"/>
              <a:ext cx="7448760" cy="1428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Picture 5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1657440" y="4794120"/>
              <a:ext cx="30456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5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1650960" y="516240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5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1650960" y="550548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57"/>
            <p:cNvSpPr/>
            <p:nvPr/>
          </p:nvSpPr>
          <p:spPr>
            <a:xfrm>
              <a:off x="1955880" y="4724280"/>
              <a:ext cx="676908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 pulley al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just rotating basket if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ubricate motor 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ubricate drum bearings if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Picture 5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1650960" y="584820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Group 70"/>
          <p:cNvGrpSpPr/>
          <p:nvPr/>
        </p:nvGrpSpPr>
        <p:grpSpPr>
          <a:xfrm>
            <a:off x="1562040" y="1511280"/>
            <a:ext cx="7448760" cy="1271520"/>
            <a:chOff x="1562040" y="1511280"/>
            <a:chExt cx="7448760" cy="1271520"/>
          </a:xfrm>
        </p:grpSpPr>
        <p:grpSp>
          <p:nvGrpSpPr>
            <p:cNvPr id="225" name="Group 66"/>
            <p:cNvGrpSpPr/>
            <p:nvPr/>
          </p:nvGrpSpPr>
          <p:grpSpPr>
            <a:xfrm>
              <a:off x="1562040" y="1511280"/>
              <a:ext cx="7448760" cy="1271520"/>
              <a:chOff x="1562040" y="1511280"/>
              <a:chExt cx="7448760" cy="1271520"/>
            </a:xfrm>
          </p:grpSpPr>
          <p:sp>
            <p:nvSpPr>
              <p:cNvPr id="226" name="Rectangle 36"/>
              <p:cNvSpPr/>
              <p:nvPr/>
            </p:nvSpPr>
            <p:spPr>
              <a:xfrm>
                <a:off x="1562040" y="1511280"/>
                <a:ext cx="7448760" cy="123804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37"/>
              <p:cNvSpPr/>
              <p:nvPr/>
            </p:nvSpPr>
            <p:spPr>
              <a:xfrm>
                <a:off x="1955880" y="1549080"/>
                <a:ext cx="6769080" cy="123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ean lint tra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ipe down inside chamber with mild deter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ean and wipe dry the outside dryer she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Picture 38" descr="C:\Documents and Settings\Microlabs\Application Data\Microsoft\Media Catalog\Downloaded Clips\cl0\BS00023_.wmf"/>
              <p:cNvPicPr/>
              <p:nvPr/>
            </p:nvPicPr>
            <p:blipFill>
              <a:blip r:embed="rId5"/>
              <a:stretch/>
            </p:blipFill>
            <p:spPr>
              <a:xfrm>
                <a:off x="1657440" y="1638000"/>
                <a:ext cx="30456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9" descr="C:\Documents and Settings\Microlabs\Application Data\Microsoft\Media Catalog\Downloaded Clips\cl0\BS00023_.wmf"/>
              <p:cNvPicPr/>
              <p:nvPr/>
            </p:nvPicPr>
            <p:blipFill>
              <a:blip r:embed="rId6"/>
              <a:stretch/>
            </p:blipFill>
            <p:spPr>
              <a:xfrm>
                <a:off x="1650960" y="2044440"/>
                <a:ext cx="304920" cy="2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0" name="Picture 40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1650960" y="2444760"/>
              <a:ext cx="304920" cy="24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69"/>
          <p:cNvGrpSpPr/>
          <p:nvPr/>
        </p:nvGrpSpPr>
        <p:grpSpPr>
          <a:xfrm>
            <a:off x="1562040" y="2819520"/>
            <a:ext cx="7772400" cy="1887840"/>
            <a:chOff x="1562040" y="2819520"/>
            <a:chExt cx="7772400" cy="1887840"/>
          </a:xfrm>
        </p:grpSpPr>
        <p:sp>
          <p:nvSpPr>
            <p:cNvPr id="232" name="Rectangle 43"/>
            <p:cNvSpPr/>
            <p:nvPr/>
          </p:nvSpPr>
          <p:spPr>
            <a:xfrm>
              <a:off x="1562040" y="2819520"/>
              <a:ext cx="7448760" cy="1855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Picture 44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1657440" y="2946240"/>
              <a:ext cx="30456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5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1650960" y="3284640"/>
              <a:ext cx="304920" cy="2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6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1650960" y="364644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47"/>
            <p:cNvSpPr/>
            <p:nvPr/>
          </p:nvSpPr>
          <p:spPr>
            <a:xfrm>
              <a:off x="1955880" y="2846520"/>
              <a:ext cx="7378560" cy="18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uum the inside of dryer (upper and lower chambe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ghten, if needed, the bolts holding dryer to flo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 all electrical conne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 fan belt for wear, replace if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ubricate moving pa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Picture 48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1650960" y="4051440"/>
              <a:ext cx="304920" cy="2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9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1650960" y="440856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457200" y="4057560"/>
            <a:ext cx="8153280" cy="1581120"/>
            <a:chOff x="457200" y="4057560"/>
            <a:chExt cx="8153280" cy="1581120"/>
          </a:xfrm>
        </p:grpSpPr>
        <p:sp>
          <p:nvSpPr>
            <p:cNvPr id="241" name="Rectangle 11"/>
            <p:cNvSpPr/>
            <p:nvPr/>
          </p:nvSpPr>
          <p:spPr>
            <a:xfrm>
              <a:off x="457200" y="4057560"/>
              <a:ext cx="8153280" cy="15811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1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445788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4"/>
            <p:cNvSpPr/>
            <p:nvPr/>
          </p:nvSpPr>
          <p:spPr>
            <a:xfrm>
              <a:off x="1009800" y="4356000"/>
              <a:ext cx="7448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st important and most extensive areas for 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itical to sales effort, to retain guests, and to maintain the asset’s monetary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" name="Picture 1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481968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18"/>
          <p:cNvGrpSpPr/>
          <p:nvPr/>
        </p:nvGrpSpPr>
        <p:grpSpPr>
          <a:xfrm>
            <a:off x="457200" y="1828800"/>
            <a:ext cx="8153280" cy="1428840"/>
            <a:chOff x="457200" y="1828800"/>
            <a:chExt cx="8153280" cy="1428840"/>
          </a:xfrm>
        </p:grpSpPr>
        <p:sp>
          <p:nvSpPr>
            <p:cNvPr id="246" name="Rectangle 4"/>
            <p:cNvSpPr/>
            <p:nvPr/>
          </p:nvSpPr>
          <p:spPr>
            <a:xfrm>
              <a:off x="457200" y="1828800"/>
              <a:ext cx="8153280" cy="1428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Picture 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3241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7"/>
            <p:cNvSpPr/>
            <p:nvPr/>
          </p:nvSpPr>
          <p:spPr>
            <a:xfrm>
              <a:off x="1009800" y="2222640"/>
              <a:ext cx="74484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dows, HVAC units, furniture, lights, elevators, carp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pet care is one of the most challenging PM are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Picture 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274320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5"/>
          <p:cNvSpPr/>
          <p:nvPr/>
        </p:nvSpPr>
        <p:spPr>
          <a:xfrm>
            <a:off x="457200" y="1600200"/>
            <a:ext cx="28195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457200" y="3828960"/>
            <a:ext cx="22096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ventative Maintenance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7"/>
          <p:cNvGrpSpPr/>
          <p:nvPr/>
        </p:nvGrpSpPr>
        <p:grpSpPr>
          <a:xfrm>
            <a:off x="457200" y="3390840"/>
            <a:ext cx="8153280" cy="1409760"/>
            <a:chOff x="457200" y="3390840"/>
            <a:chExt cx="8153280" cy="1409760"/>
          </a:xfrm>
        </p:grpSpPr>
        <p:sp>
          <p:nvSpPr>
            <p:cNvPr id="255" name="Rectangle 9"/>
            <p:cNvSpPr/>
            <p:nvPr/>
          </p:nvSpPr>
          <p:spPr>
            <a:xfrm>
              <a:off x="457200" y="3390840"/>
              <a:ext cx="8153280" cy="1409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609480" y="3651120"/>
              <a:ext cx="7848720" cy="1132200"/>
              <a:chOff x="609480" y="3651120"/>
              <a:chExt cx="7848720" cy="1132200"/>
            </a:xfrm>
          </p:grpSpPr>
          <p:pic>
            <p:nvPicPr>
              <p:cNvPr id="257" name="Picture 11" descr="C:\Documents and Settings\Microlabs\Application Data\Microsoft\Media Catalog\Downloaded Clips\cl0\BS00023_.wmf"/>
              <p:cNvPicPr/>
              <p:nvPr/>
            </p:nvPicPr>
            <p:blipFill>
              <a:blip r:embed="rId1"/>
              <a:stretch/>
            </p:blipFill>
            <p:spPr>
              <a:xfrm>
                <a:off x="609480" y="3676680"/>
                <a:ext cx="368280" cy="2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Text Box 12"/>
              <p:cNvSpPr/>
              <p:nvPr/>
            </p:nvSpPr>
            <p:spPr>
              <a:xfrm>
                <a:off x="1009800" y="3651120"/>
                <a:ext cx="744840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shers, dryers, folding equipment, water supply lines, drains, lighting fixtures, temperature control uni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hemical dispenser maintenance should be an important part of the laundry PM program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9" name="Picture 14" descr="C:\Documents and Settings\Microlabs\Application Data\Microsoft\Media Catalog\Downloaded Clips\cl0\BS00023_.wmf"/>
              <p:cNvPicPr/>
              <p:nvPr/>
            </p:nvPicPr>
            <p:blipFill>
              <a:blip r:embed="rId2"/>
              <a:stretch/>
            </p:blipFill>
            <p:spPr>
              <a:xfrm>
                <a:off x="609480" y="4324320"/>
                <a:ext cx="368280" cy="291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0" name="Group 26"/>
          <p:cNvGrpSpPr/>
          <p:nvPr/>
        </p:nvGrpSpPr>
        <p:grpSpPr>
          <a:xfrm>
            <a:off x="457200" y="5124600"/>
            <a:ext cx="8153280" cy="1066680"/>
            <a:chOff x="457200" y="5124600"/>
            <a:chExt cx="8153280" cy="1066680"/>
          </a:xfrm>
        </p:grpSpPr>
        <p:sp>
          <p:nvSpPr>
            <p:cNvPr id="261" name="Rectangle 18"/>
            <p:cNvSpPr/>
            <p:nvPr/>
          </p:nvSpPr>
          <p:spPr>
            <a:xfrm>
              <a:off x="457200" y="5124600"/>
              <a:ext cx="8153280" cy="1066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2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5391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21"/>
            <p:cNvSpPr/>
            <p:nvPr/>
          </p:nvSpPr>
          <p:spPr>
            <a:xfrm>
              <a:off x="1009800" y="5423040"/>
              <a:ext cx="744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ols and spas, front desk equipment, electronic locks, exterior door locks, motor vehicles, and in-hotel transportation equ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24"/>
          <p:cNvGrpSpPr/>
          <p:nvPr/>
        </p:nvGrpSpPr>
        <p:grpSpPr>
          <a:xfrm>
            <a:off x="457200" y="1143000"/>
            <a:ext cx="8153280" cy="1993680"/>
            <a:chOff x="457200" y="1143000"/>
            <a:chExt cx="8153280" cy="1993680"/>
          </a:xfrm>
        </p:grpSpPr>
        <p:sp>
          <p:nvSpPr>
            <p:cNvPr id="265" name="Rectangle 4"/>
            <p:cNvSpPr/>
            <p:nvPr/>
          </p:nvSpPr>
          <p:spPr>
            <a:xfrm>
              <a:off x="457200" y="1143000"/>
              <a:ext cx="8153280" cy="1942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3716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7"/>
            <p:cNvSpPr/>
            <p:nvPr/>
          </p:nvSpPr>
          <p:spPr>
            <a:xfrm>
              <a:off x="1009800" y="1326960"/>
              <a:ext cx="7448400" cy="18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ck-of-house equ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ovens, ranges, griddles, fryers, other production equ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ning space used by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chairs and booths, self-serve salad or buffet areas, lighting fixtures, guest check processing equ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eting and conference rooms and equ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Picture 16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609480" y="19364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7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609480" y="281916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Text Box 5"/>
          <p:cNvSpPr/>
          <p:nvPr/>
        </p:nvSpPr>
        <p:spPr>
          <a:xfrm>
            <a:off x="457200" y="914400"/>
            <a:ext cx="21337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od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457200" y="3124080"/>
            <a:ext cx="22096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u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764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ventative Maintenance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57200" y="4896000"/>
            <a:ext cx="31240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16"/>
          <p:cNvGrpSpPr/>
          <p:nvPr/>
        </p:nvGrpSpPr>
        <p:grpSpPr>
          <a:xfrm>
            <a:off x="609480" y="1676520"/>
            <a:ext cx="7239240" cy="2666880"/>
            <a:chOff x="609480" y="1676520"/>
            <a:chExt cx="7239240" cy="2666880"/>
          </a:xfrm>
        </p:grpSpPr>
        <p:sp>
          <p:nvSpPr>
            <p:cNvPr id="276" name="Rectangle 7"/>
            <p:cNvSpPr/>
            <p:nvPr/>
          </p:nvSpPr>
          <p:spPr>
            <a:xfrm>
              <a:off x="609480" y="1676520"/>
              <a:ext cx="7239240" cy="2666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Picture 9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822240" y="21225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0"/>
            <p:cNvSpPr/>
            <p:nvPr/>
          </p:nvSpPr>
          <p:spPr>
            <a:xfrm>
              <a:off x="1241280" y="2000160"/>
              <a:ext cx="6531120" cy="21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unexpec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reaten to negatively impact hotel reve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 immediate attention to minimize da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 labor and parts that may need to be purchased at a prem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Picture 1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822240" y="25462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822240" y="304164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3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822240" y="346068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17"/>
          <p:cNvGrpSpPr/>
          <p:nvPr/>
        </p:nvGrpSpPr>
        <p:grpSpPr>
          <a:xfrm>
            <a:off x="584280" y="4641840"/>
            <a:ext cx="7810560" cy="1092240"/>
            <a:chOff x="584280" y="4641840"/>
            <a:chExt cx="7810560" cy="1092240"/>
          </a:xfrm>
        </p:grpSpPr>
        <p:sp>
          <p:nvSpPr>
            <p:cNvPr id="283" name="Rectangle 2"/>
            <p:cNvSpPr/>
            <p:nvPr/>
          </p:nvSpPr>
          <p:spPr>
            <a:xfrm>
              <a:off x="584280" y="4641840"/>
              <a:ext cx="7391160" cy="1092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3"/>
            <p:cNvSpPr/>
            <p:nvPr/>
          </p:nvSpPr>
          <p:spPr>
            <a:xfrm>
              <a:off x="838080" y="4724280"/>
              <a:ext cx="755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tronger the routine and PM programs, the fewer dollars spent on emergency repair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Text Box 8"/>
          <p:cNvSpPr/>
          <p:nvPr/>
        </p:nvSpPr>
        <p:spPr>
          <a:xfrm>
            <a:off x="609480" y="1447920"/>
            <a:ext cx="54486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ergency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mergency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1"/>
          <p:cNvGrpSpPr/>
          <p:nvPr/>
        </p:nvGrpSpPr>
        <p:grpSpPr>
          <a:xfrm>
            <a:off x="457200" y="4648320"/>
            <a:ext cx="8153280" cy="1320840"/>
            <a:chOff x="457200" y="4648320"/>
            <a:chExt cx="8153280" cy="1320840"/>
          </a:xfrm>
        </p:grpSpPr>
        <p:sp>
          <p:nvSpPr>
            <p:cNvPr id="289" name="Rectangle 2"/>
            <p:cNvSpPr/>
            <p:nvPr/>
          </p:nvSpPr>
          <p:spPr>
            <a:xfrm>
              <a:off x="457200" y="4648320"/>
              <a:ext cx="8153280" cy="1320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3"/>
            <p:cNvSpPr/>
            <p:nvPr/>
          </p:nvSpPr>
          <p:spPr>
            <a:xfrm>
              <a:off x="609480" y="4749840"/>
              <a:ext cx="755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ergy management: specific policies and engineering, maintenance, and facility design activities intended to control and reduce energy us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Ut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28"/>
          <p:cNvGrpSpPr/>
          <p:nvPr/>
        </p:nvGrpSpPr>
        <p:grpSpPr>
          <a:xfrm>
            <a:off x="380880" y="1486080"/>
            <a:ext cx="8229600" cy="761760"/>
            <a:chOff x="380880" y="1486080"/>
            <a:chExt cx="8229600" cy="761760"/>
          </a:xfrm>
        </p:grpSpPr>
        <p:sp>
          <p:nvSpPr>
            <p:cNvPr id="293" name="Rectangle 16"/>
            <p:cNvSpPr/>
            <p:nvPr/>
          </p:nvSpPr>
          <p:spPr>
            <a:xfrm>
              <a:off x="380880" y="148608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Picture 1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6732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18"/>
            <p:cNvSpPr/>
            <p:nvPr/>
          </p:nvSpPr>
          <p:spPr>
            <a:xfrm>
              <a:off x="1058760" y="1654200"/>
              <a:ext cx="707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0% of total utility costs for hotel are actually fix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380880" y="2324160"/>
            <a:ext cx="8229600" cy="990720"/>
            <a:chOff x="380880" y="2324160"/>
            <a:chExt cx="8229600" cy="990720"/>
          </a:xfrm>
        </p:grpSpPr>
        <p:sp>
          <p:nvSpPr>
            <p:cNvPr id="297" name="Rectangle 19"/>
            <p:cNvSpPr/>
            <p:nvPr/>
          </p:nvSpPr>
          <p:spPr>
            <a:xfrm>
              <a:off x="380880" y="232416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Picture 20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354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21"/>
            <p:cNvSpPr/>
            <p:nvPr/>
          </p:nvSpPr>
          <p:spPr>
            <a:xfrm>
              <a:off x="1058760" y="2416320"/>
              <a:ext cx="747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ergy costs present 3 - 10% of total operational costs, depending on hotel’s 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30"/>
          <p:cNvGrpSpPr/>
          <p:nvPr/>
        </p:nvGrpSpPr>
        <p:grpSpPr>
          <a:xfrm>
            <a:off x="380880" y="3375000"/>
            <a:ext cx="8229600" cy="990720"/>
            <a:chOff x="380880" y="3375000"/>
            <a:chExt cx="8229600" cy="990720"/>
          </a:xfrm>
        </p:grpSpPr>
        <p:sp>
          <p:nvSpPr>
            <p:cNvPr id="301" name="Rectangle 25"/>
            <p:cNvSpPr/>
            <p:nvPr/>
          </p:nvSpPr>
          <p:spPr>
            <a:xfrm>
              <a:off x="380880" y="33750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Picture 2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4862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7"/>
            <p:cNvSpPr/>
            <p:nvPr/>
          </p:nvSpPr>
          <p:spPr>
            <a:xfrm>
              <a:off x="1058760" y="3467160"/>
              <a:ext cx="747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&amp;M department should be concerned with conserving energy and controlling utility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25"/>
          <p:cNvGrpSpPr/>
          <p:nvPr/>
        </p:nvGrpSpPr>
        <p:grpSpPr>
          <a:xfrm>
            <a:off x="457200" y="806400"/>
            <a:ext cx="8077320" cy="840960"/>
            <a:chOff x="457200" y="806400"/>
            <a:chExt cx="8077320" cy="840960"/>
          </a:xfrm>
        </p:grpSpPr>
        <p:sp>
          <p:nvSpPr>
            <p:cNvPr id="306" name="Rectangle 4"/>
            <p:cNvSpPr/>
            <p:nvPr/>
          </p:nvSpPr>
          <p:spPr>
            <a:xfrm>
              <a:off x="457200" y="806400"/>
              <a:ext cx="807732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647640" y="895320"/>
              <a:ext cx="7448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ectricity is most common and usually most expensive form of energy used in hote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 Box 10"/>
          <p:cNvSpPr/>
          <p:nvPr/>
        </p:nvSpPr>
        <p:spPr>
          <a:xfrm>
            <a:off x="457200" y="1790640"/>
            <a:ext cx="22096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26"/>
          <p:cNvGrpSpPr/>
          <p:nvPr/>
        </p:nvGrpSpPr>
        <p:grpSpPr>
          <a:xfrm>
            <a:off x="457200" y="2247840"/>
            <a:ext cx="8153280" cy="840960"/>
            <a:chOff x="457200" y="2247840"/>
            <a:chExt cx="8153280" cy="840960"/>
          </a:xfrm>
        </p:grpSpPr>
        <p:sp>
          <p:nvSpPr>
            <p:cNvPr id="310" name="Rectangle 9"/>
            <p:cNvSpPr/>
            <p:nvPr/>
          </p:nvSpPr>
          <p:spPr>
            <a:xfrm>
              <a:off x="457200" y="2247840"/>
              <a:ext cx="8153280" cy="838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Picture 11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23241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12"/>
            <p:cNvSpPr/>
            <p:nvPr/>
          </p:nvSpPr>
          <p:spPr>
            <a:xfrm>
              <a:off x="1009800" y="2260440"/>
              <a:ext cx="74484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ght levels measured in foot-cand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The more foot-candles, the greater the illumin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Utilities: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7"/>
          <p:cNvGrpSpPr/>
          <p:nvPr/>
        </p:nvGrpSpPr>
        <p:grpSpPr>
          <a:xfrm>
            <a:off x="457200" y="3162240"/>
            <a:ext cx="8153280" cy="882720"/>
            <a:chOff x="457200" y="3162240"/>
            <a:chExt cx="8153280" cy="882720"/>
          </a:xfrm>
        </p:grpSpPr>
        <p:sp>
          <p:nvSpPr>
            <p:cNvPr id="315" name="Rectangle 17"/>
            <p:cNvSpPr/>
            <p:nvPr/>
          </p:nvSpPr>
          <p:spPr>
            <a:xfrm>
              <a:off x="457200" y="3162240"/>
              <a:ext cx="8153280" cy="882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Picture 1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20688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19"/>
            <p:cNvSpPr/>
            <p:nvPr/>
          </p:nvSpPr>
          <p:spPr>
            <a:xfrm>
              <a:off x="1009800" y="3162240"/>
              <a:ext cx="74484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candescent ligh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efficient, short-life, but easy to rep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28"/>
          <p:cNvGrpSpPr/>
          <p:nvPr/>
        </p:nvGrpSpPr>
        <p:grpSpPr>
          <a:xfrm>
            <a:off x="457200" y="4152960"/>
            <a:ext cx="8153280" cy="882720"/>
            <a:chOff x="457200" y="4152960"/>
            <a:chExt cx="8153280" cy="882720"/>
          </a:xfrm>
        </p:grpSpPr>
        <p:sp>
          <p:nvSpPr>
            <p:cNvPr id="319" name="Rectangle 20"/>
            <p:cNvSpPr/>
            <p:nvPr/>
          </p:nvSpPr>
          <p:spPr>
            <a:xfrm>
              <a:off x="457200" y="4152960"/>
              <a:ext cx="8153280" cy="882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Picture 21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41972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22"/>
            <p:cNvSpPr/>
            <p:nvPr/>
          </p:nvSpPr>
          <p:spPr>
            <a:xfrm>
              <a:off x="1009800" y="4152960"/>
              <a:ext cx="74484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ectric discharge ligh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er lives, higher efficiency and low operating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29"/>
          <p:cNvGrpSpPr/>
          <p:nvPr/>
        </p:nvGrpSpPr>
        <p:grpSpPr>
          <a:xfrm>
            <a:off x="457200" y="5334120"/>
            <a:ext cx="8153280" cy="838080"/>
            <a:chOff x="457200" y="5334120"/>
            <a:chExt cx="8153280" cy="838080"/>
          </a:xfrm>
        </p:grpSpPr>
        <p:sp>
          <p:nvSpPr>
            <p:cNvPr id="323" name="Rectangle 23"/>
            <p:cNvSpPr/>
            <p:nvPr/>
          </p:nvSpPr>
          <p:spPr>
            <a:xfrm>
              <a:off x="457200" y="5334120"/>
              <a:ext cx="815328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24"/>
            <p:cNvSpPr/>
            <p:nvPr/>
          </p:nvSpPr>
          <p:spPr>
            <a:xfrm>
              <a:off x="647640" y="5346720"/>
              <a:ext cx="7448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ghting maintenance (lamp repair, bulb change, and fixture cleansing) must be an integral part in PM progra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457200" y="1066680"/>
            <a:ext cx="66294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ting, ventilation, &amp; air conditioning (H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24"/>
          <p:cNvGrpSpPr/>
          <p:nvPr/>
        </p:nvGrpSpPr>
        <p:grpSpPr>
          <a:xfrm>
            <a:off x="457200" y="1657440"/>
            <a:ext cx="8153280" cy="1356120"/>
            <a:chOff x="457200" y="1657440"/>
            <a:chExt cx="8153280" cy="1356120"/>
          </a:xfrm>
        </p:grpSpPr>
        <p:sp>
          <p:nvSpPr>
            <p:cNvPr id="328" name="Rectangle 6"/>
            <p:cNvSpPr/>
            <p:nvPr/>
          </p:nvSpPr>
          <p:spPr>
            <a:xfrm>
              <a:off x="457200" y="1657440"/>
              <a:ext cx="8153280" cy="1333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1733400"/>
              <a:ext cx="368280" cy="2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9"/>
            <p:cNvSpPr/>
            <p:nvPr/>
          </p:nvSpPr>
          <p:spPr>
            <a:xfrm>
              <a:off x="1009800" y="1669680"/>
              <a:ext cx="74484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ting 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ectricity is not cost-effective in cold clim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natural gas, LPG, steam, or fuel 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Utilities: Electricity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25"/>
          <p:cNvGrpSpPr/>
          <p:nvPr/>
        </p:nvGrpSpPr>
        <p:grpSpPr>
          <a:xfrm>
            <a:off x="457200" y="3048120"/>
            <a:ext cx="8153280" cy="3167640"/>
            <a:chOff x="457200" y="3048120"/>
            <a:chExt cx="8153280" cy="3167640"/>
          </a:xfrm>
        </p:grpSpPr>
        <p:sp>
          <p:nvSpPr>
            <p:cNvPr id="333" name="Rectangle 21"/>
            <p:cNvSpPr/>
            <p:nvPr/>
          </p:nvSpPr>
          <p:spPr>
            <a:xfrm>
              <a:off x="457200" y="3048120"/>
              <a:ext cx="8153280" cy="3136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4" name="Picture 22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124080"/>
              <a:ext cx="368280" cy="2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23"/>
            <p:cNvSpPr/>
            <p:nvPr/>
          </p:nvSpPr>
          <p:spPr>
            <a:xfrm>
              <a:off x="1009800" y="3060720"/>
              <a:ext cx="7448400" cy="31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04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ing 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04920">
                <a:spcBef>
                  <a:spcPts val="5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ffectiveness of cooling system dependent 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04920">
                <a:spcBef>
                  <a:spcPts val="5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Original air temperature &amp; humidity of room to be               cool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04920">
                <a:spcBef>
                  <a:spcPts val="5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emperature &amp; humidity of chilled air entering room from HVA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04920">
                <a:spcBef>
                  <a:spcPts val="5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Quantity of chilled air entering ro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04920">
                <a:spcBef>
                  <a:spcPts val="5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Operational efficiency of air-conditioning equipm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24"/>
          <p:cNvGrpSpPr/>
          <p:nvPr/>
        </p:nvGrpSpPr>
        <p:grpSpPr>
          <a:xfrm>
            <a:off x="171360" y="1523880"/>
            <a:ext cx="9128160" cy="4114800"/>
            <a:chOff x="171360" y="1523880"/>
            <a:chExt cx="9128160" cy="4114800"/>
          </a:xfrm>
        </p:grpSpPr>
        <p:sp>
          <p:nvSpPr>
            <p:cNvPr id="50" name="Rectangle 2"/>
            <p:cNvSpPr/>
            <p:nvPr/>
          </p:nvSpPr>
          <p:spPr>
            <a:xfrm>
              <a:off x="171360" y="1523880"/>
              <a:ext cx="8839440" cy="4114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Picture 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50920" y="20462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4"/>
            <p:cNvSpPr/>
            <p:nvPr/>
          </p:nvSpPr>
          <p:spPr>
            <a:xfrm>
              <a:off x="574560" y="1943280"/>
              <a:ext cx="8724960" cy="34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ecting and enhancing financial value of building and grounds for hotel’s own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porting efforts of all other hotel departments through timely attention to their E&amp;M nee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ling maintenance and repair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ling energy us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creasing pride &amp; morale of hotel 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suring safety of those working and visiting the ho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1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50920" y="28386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50920" y="36385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50920" y="405756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0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50920" y="45338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1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50920" y="493380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Text Box 3"/>
          <p:cNvSpPr/>
          <p:nvPr/>
        </p:nvSpPr>
        <p:spPr>
          <a:xfrm>
            <a:off x="190440" y="1365120"/>
            <a:ext cx="41529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 of E&amp;M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7677000" y="6529320"/>
            <a:ext cx="1295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1314360"/>
            <a:ext cx="320040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ges of natural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Utilities:Natural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0"/>
          <p:cNvGrpSpPr/>
          <p:nvPr/>
        </p:nvGrpSpPr>
        <p:grpSpPr>
          <a:xfrm>
            <a:off x="457200" y="1905120"/>
            <a:ext cx="8153280" cy="2324160"/>
            <a:chOff x="457200" y="1905120"/>
            <a:chExt cx="8153280" cy="2324160"/>
          </a:xfrm>
        </p:grpSpPr>
        <p:sp>
          <p:nvSpPr>
            <p:cNvPr id="341" name="Rectangle 4"/>
            <p:cNvSpPr/>
            <p:nvPr/>
          </p:nvSpPr>
          <p:spPr>
            <a:xfrm>
              <a:off x="457200" y="1905120"/>
              <a:ext cx="8153280" cy="2324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2" name="Picture 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19810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7"/>
            <p:cNvSpPr/>
            <p:nvPr/>
          </p:nvSpPr>
          <p:spPr>
            <a:xfrm>
              <a:off x="1009800" y="1917720"/>
              <a:ext cx="7600680" cy="22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ting water for guest ro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ing laundry area clothes dry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ing plants to provide heat to guest rooms and public 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king (rapid heat production and great degree of temperature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4" name="Picture 1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90400" y="234324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90400" y="2781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71680" y="346716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Group 21"/>
          <p:cNvGrpSpPr/>
          <p:nvPr/>
        </p:nvGrpSpPr>
        <p:grpSpPr>
          <a:xfrm>
            <a:off x="457200" y="4457880"/>
            <a:ext cx="8153280" cy="1066680"/>
            <a:chOff x="457200" y="4457880"/>
            <a:chExt cx="8153280" cy="1066680"/>
          </a:xfrm>
        </p:grpSpPr>
        <p:sp>
          <p:nvSpPr>
            <p:cNvPr id="348" name="Rectangle 17"/>
            <p:cNvSpPr/>
            <p:nvPr/>
          </p:nvSpPr>
          <p:spPr>
            <a:xfrm>
              <a:off x="457200" y="4457880"/>
              <a:ext cx="8153280" cy="1066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8"/>
            <p:cNvSpPr/>
            <p:nvPr/>
          </p:nvSpPr>
          <p:spPr>
            <a:xfrm>
              <a:off x="609480" y="4629240"/>
              <a:ext cx="78487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d properly, natural gas is an extremely safe source of energy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19"/>
          <p:cNvGrpSpPr/>
          <p:nvPr/>
        </p:nvGrpSpPr>
        <p:grpSpPr>
          <a:xfrm>
            <a:off x="457200" y="4191120"/>
            <a:ext cx="8229600" cy="1981080"/>
            <a:chOff x="457200" y="4191120"/>
            <a:chExt cx="8229600" cy="1981080"/>
          </a:xfrm>
        </p:grpSpPr>
        <p:sp>
          <p:nvSpPr>
            <p:cNvPr id="352" name="Rectangle 9"/>
            <p:cNvSpPr/>
            <p:nvPr/>
          </p:nvSpPr>
          <p:spPr>
            <a:xfrm>
              <a:off x="457200" y="4191120"/>
              <a:ext cx="8153280" cy="1981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" name="Picture 11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459108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12"/>
            <p:cNvSpPr/>
            <p:nvPr/>
          </p:nvSpPr>
          <p:spPr>
            <a:xfrm>
              <a:off x="1009800" y="4489560"/>
              <a:ext cx="767700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tels encourage manufacturers to practice source reduction &amp; to implement creative programs to reduce solid wa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duce waste disposal costs by: recycling minimizing waste generation &amp; wise purch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Picture 1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533412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Group 18"/>
          <p:cNvGrpSpPr/>
          <p:nvPr/>
        </p:nvGrpSpPr>
        <p:grpSpPr>
          <a:xfrm>
            <a:off x="457200" y="1828800"/>
            <a:ext cx="8153280" cy="1969920"/>
            <a:chOff x="457200" y="1828800"/>
            <a:chExt cx="8153280" cy="1969920"/>
          </a:xfrm>
        </p:grpSpPr>
        <p:sp>
          <p:nvSpPr>
            <p:cNvPr id="357" name="Rectangle 4"/>
            <p:cNvSpPr/>
            <p:nvPr/>
          </p:nvSpPr>
          <p:spPr>
            <a:xfrm>
              <a:off x="457200" y="1828800"/>
              <a:ext cx="8153280" cy="19051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Picture 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1906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7"/>
            <p:cNvSpPr/>
            <p:nvPr/>
          </p:nvSpPr>
          <p:spPr>
            <a:xfrm>
              <a:off x="1009800" y="2089080"/>
              <a:ext cx="7448400" cy="17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duces the number of gallon of water purcha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duces the amount the hotel will pay for sew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the case of hot water, reduces water-heating costs because less hot water must be produ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Picture 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26100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7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609480" y="304812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Text Box 5"/>
          <p:cNvSpPr/>
          <p:nvPr/>
        </p:nvSpPr>
        <p:spPr>
          <a:xfrm>
            <a:off x="457200" y="1600200"/>
            <a:ext cx="28195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rving w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457200" y="3962520"/>
            <a:ext cx="22096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Utilities: Water /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9"/>
          <p:cNvGrpSpPr/>
          <p:nvPr/>
        </p:nvGrpSpPr>
        <p:grpSpPr>
          <a:xfrm>
            <a:off x="990720" y="2933640"/>
            <a:ext cx="7238880" cy="2432160"/>
            <a:chOff x="990720" y="2933640"/>
            <a:chExt cx="7238880" cy="2432160"/>
          </a:xfrm>
        </p:grpSpPr>
        <p:sp>
          <p:nvSpPr>
            <p:cNvPr id="62" name="Rectangle 25"/>
            <p:cNvSpPr/>
            <p:nvPr/>
          </p:nvSpPr>
          <p:spPr>
            <a:xfrm>
              <a:off x="990720" y="2933640"/>
              <a:ext cx="7238880" cy="2432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2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1241280" y="34560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8"/>
            <p:cNvSpPr/>
            <p:nvPr/>
          </p:nvSpPr>
          <p:spPr>
            <a:xfrm>
              <a:off x="1660680" y="3390840"/>
              <a:ext cx="59623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derpowered (or overpowered) equi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creased building deteri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cessive energy us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er-than-necessary operating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3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1241280" y="39178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1241280" y="43560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3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1241280" y="479412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38"/>
          <p:cNvGrpSpPr/>
          <p:nvPr/>
        </p:nvGrpSpPr>
        <p:grpSpPr>
          <a:xfrm>
            <a:off x="895320" y="1251000"/>
            <a:ext cx="7581960" cy="1350000"/>
            <a:chOff x="895320" y="1251000"/>
            <a:chExt cx="7581960" cy="1350000"/>
          </a:xfrm>
        </p:grpSpPr>
        <p:sp>
          <p:nvSpPr>
            <p:cNvPr id="69" name="Rectangle 15"/>
            <p:cNvSpPr/>
            <p:nvPr/>
          </p:nvSpPr>
          <p:spPr>
            <a:xfrm>
              <a:off x="895320" y="1251000"/>
              <a:ext cx="7391520" cy="1092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6"/>
            <p:cNvSpPr/>
            <p:nvPr/>
          </p:nvSpPr>
          <p:spPr>
            <a:xfrm>
              <a:off x="920880" y="1333440"/>
              <a:ext cx="755640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gineering: Designing and operating the building to ens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fe and comfortable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: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990720" y="2705040"/>
            <a:ext cx="41529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 of E&amp;M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5"/>
          <p:cNvGrpSpPr/>
          <p:nvPr/>
        </p:nvGrpSpPr>
        <p:grpSpPr>
          <a:xfrm>
            <a:off x="1200240" y="1251000"/>
            <a:ext cx="7410240" cy="1092240"/>
            <a:chOff x="1200240" y="1251000"/>
            <a:chExt cx="7410240" cy="1092240"/>
          </a:xfrm>
        </p:grpSpPr>
        <p:sp>
          <p:nvSpPr>
            <p:cNvPr id="75" name="Rectangle 2"/>
            <p:cNvSpPr/>
            <p:nvPr/>
          </p:nvSpPr>
          <p:spPr>
            <a:xfrm>
              <a:off x="1200240" y="1251000"/>
              <a:ext cx="7391160" cy="1092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"/>
            <p:cNvSpPr/>
            <p:nvPr/>
          </p:nvSpPr>
          <p:spPr>
            <a:xfrm>
              <a:off x="1682640" y="1333440"/>
              <a:ext cx="69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tenance: activities required to keep a building (physical property) &amp; its contents in good repai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8"/>
          <p:cNvSpPr/>
          <p:nvPr/>
        </p:nvSpPr>
        <p:spPr>
          <a:xfrm>
            <a:off x="2228760" y="2705040"/>
            <a:ext cx="50292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hotel maintenance must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: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28"/>
          <p:cNvGrpSpPr/>
          <p:nvPr/>
        </p:nvGrpSpPr>
        <p:grpSpPr>
          <a:xfrm>
            <a:off x="3568680" y="3435480"/>
            <a:ext cx="2032200" cy="736560"/>
            <a:chOff x="3568680" y="3435480"/>
            <a:chExt cx="2032200" cy="736560"/>
          </a:xfrm>
        </p:grpSpPr>
        <p:sp>
          <p:nvSpPr>
            <p:cNvPr id="80" name="Rectangle 16"/>
            <p:cNvSpPr/>
            <p:nvPr/>
          </p:nvSpPr>
          <p:spPr>
            <a:xfrm>
              <a:off x="3568680" y="3435480"/>
              <a:ext cx="2032200" cy="736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7"/>
            <p:cNvSpPr/>
            <p:nvPr/>
          </p:nvSpPr>
          <p:spPr>
            <a:xfrm>
              <a:off x="3943440" y="3543480"/>
              <a:ext cx="13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lann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6"/>
          <p:cNvGrpSpPr/>
          <p:nvPr/>
        </p:nvGrpSpPr>
        <p:grpSpPr>
          <a:xfrm>
            <a:off x="3587760" y="4172040"/>
            <a:ext cx="2127240" cy="1085760"/>
            <a:chOff x="3587760" y="4172040"/>
            <a:chExt cx="2127240" cy="1085760"/>
          </a:xfrm>
        </p:grpSpPr>
        <p:sp>
          <p:nvSpPr>
            <p:cNvPr id="83" name="Rectangle 18"/>
            <p:cNvSpPr/>
            <p:nvPr/>
          </p:nvSpPr>
          <p:spPr>
            <a:xfrm>
              <a:off x="3587760" y="4521240"/>
              <a:ext cx="2031840" cy="736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3676680" y="4629240"/>
              <a:ext cx="20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pleme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2"/>
            <p:cNvSpPr/>
            <p:nvPr/>
          </p:nvSpPr>
          <p:spPr>
            <a:xfrm>
              <a:off x="4514760" y="4172040"/>
              <a:ext cx="0" cy="371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7"/>
          <p:cNvGrpSpPr/>
          <p:nvPr/>
        </p:nvGrpSpPr>
        <p:grpSpPr>
          <a:xfrm>
            <a:off x="3587760" y="5238720"/>
            <a:ext cx="2031840" cy="1066680"/>
            <a:chOff x="3587760" y="5238720"/>
            <a:chExt cx="2031840" cy="1066680"/>
          </a:xfrm>
        </p:grpSpPr>
        <p:sp>
          <p:nvSpPr>
            <p:cNvPr id="87" name="Rectangle 20"/>
            <p:cNvSpPr/>
            <p:nvPr/>
          </p:nvSpPr>
          <p:spPr>
            <a:xfrm>
              <a:off x="3587760" y="5568840"/>
              <a:ext cx="2031840" cy="736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3828960" y="5676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or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4514760" y="5238720"/>
              <a:ext cx="0" cy="371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76320" y="1695600"/>
            <a:ext cx="2876400" cy="1447560"/>
            <a:chOff x="76320" y="1695600"/>
            <a:chExt cx="2876400" cy="1447560"/>
          </a:xfrm>
        </p:grpSpPr>
        <p:sp>
          <p:nvSpPr>
            <p:cNvPr id="92" name="Rectangle 25"/>
            <p:cNvSpPr/>
            <p:nvPr/>
          </p:nvSpPr>
          <p:spPr>
            <a:xfrm>
              <a:off x="76320" y="1695600"/>
              <a:ext cx="2876400" cy="1447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3"/>
            <p:cNvSpPr/>
            <p:nvPr/>
          </p:nvSpPr>
          <p:spPr>
            <a:xfrm>
              <a:off x="266760" y="180972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ilding’s original design, size and facil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&amp; Re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3"/>
          <p:cNvGrpSpPr/>
          <p:nvPr/>
        </p:nvGrpSpPr>
        <p:grpSpPr>
          <a:xfrm>
            <a:off x="3057480" y="1695600"/>
            <a:ext cx="2876760" cy="1447560"/>
            <a:chOff x="3057480" y="1695600"/>
            <a:chExt cx="2876760" cy="1447560"/>
          </a:xfrm>
        </p:grpSpPr>
        <p:sp>
          <p:nvSpPr>
            <p:cNvPr id="96" name="Rectangle 24"/>
            <p:cNvSpPr/>
            <p:nvPr/>
          </p:nvSpPr>
          <p:spPr>
            <a:xfrm>
              <a:off x="3057480" y="1695600"/>
              <a:ext cx="2876760" cy="1447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1"/>
            <p:cNvSpPr/>
            <p:nvPr/>
          </p:nvSpPr>
          <p:spPr>
            <a:xfrm>
              <a:off x="3276720" y="180972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ality of construction used in buil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019920" y="1695600"/>
            <a:ext cx="2876400" cy="1447560"/>
            <a:chOff x="6019920" y="1695600"/>
            <a:chExt cx="2876400" cy="1447560"/>
          </a:xfrm>
        </p:grpSpPr>
        <p:sp>
          <p:nvSpPr>
            <p:cNvPr id="99" name="Rectangle 22"/>
            <p:cNvSpPr/>
            <p:nvPr/>
          </p:nvSpPr>
          <p:spPr>
            <a:xfrm>
              <a:off x="6019920" y="1695600"/>
              <a:ext cx="2876400" cy="1447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3"/>
            <p:cNvSpPr/>
            <p:nvPr/>
          </p:nvSpPr>
          <p:spPr>
            <a:xfrm>
              <a:off x="6039000" y="18097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ishes and equipment specified for insta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3429000" y="3448080"/>
            <a:ext cx="2286000" cy="1297080"/>
            <a:chOff x="3429000" y="3448080"/>
            <a:chExt cx="2286000" cy="1297080"/>
          </a:xfrm>
        </p:grpSpPr>
        <p:sp>
          <p:nvSpPr>
            <p:cNvPr id="102" name="AutoShape 27"/>
            <p:cNvSpPr/>
            <p:nvPr/>
          </p:nvSpPr>
          <p:spPr>
            <a:xfrm>
              <a:off x="3429000" y="3448080"/>
              <a:ext cx="2286000" cy="12970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9"/>
            <p:cNvSpPr/>
            <p:nvPr/>
          </p:nvSpPr>
          <p:spPr>
            <a:xfrm>
              <a:off x="4057560" y="3753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ff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36"/>
          <p:cNvGrpSpPr/>
          <p:nvPr/>
        </p:nvGrpSpPr>
        <p:grpSpPr>
          <a:xfrm>
            <a:off x="1200240" y="4813200"/>
            <a:ext cx="7410240" cy="844560"/>
            <a:chOff x="1200240" y="4813200"/>
            <a:chExt cx="7410240" cy="844560"/>
          </a:xfrm>
        </p:grpSpPr>
        <p:sp>
          <p:nvSpPr>
            <p:cNvPr id="105" name="Rectangle 30"/>
            <p:cNvSpPr/>
            <p:nvPr/>
          </p:nvSpPr>
          <p:spPr>
            <a:xfrm>
              <a:off x="1200240" y="4813200"/>
              <a:ext cx="7391160" cy="844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31"/>
            <p:cNvSpPr/>
            <p:nvPr/>
          </p:nvSpPr>
          <p:spPr>
            <a:xfrm>
              <a:off x="1371600" y="499104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erty Operation &amp; Maintenance (POM) related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7680" y="1600200"/>
          <a:ext cx="8648640" cy="3448080"/>
        </p:xfrm>
        <a:graphic>
          <a:graphicData uri="http://schemas.openxmlformats.org/drawingml/2006/table">
            <a:tbl>
              <a:tblPr/>
              <a:tblGrid>
                <a:gridCol w="2266920"/>
                <a:gridCol w="638172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characteristics and requir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maintenance costs in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6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ntenance costs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8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urbishment required; average maintenance costs in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or renovation and refurbishmen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22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renovation as well as refurbishmen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+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oration required; high-maintenance costs in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&amp; Renovation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61"/>
          <p:cNvGrpSpPr/>
          <p:nvPr/>
        </p:nvGrpSpPr>
        <p:grpSpPr>
          <a:xfrm>
            <a:off x="209520" y="5270400"/>
            <a:ext cx="8629560" cy="870120"/>
            <a:chOff x="209520" y="5270400"/>
            <a:chExt cx="8629560" cy="870120"/>
          </a:xfrm>
        </p:grpSpPr>
        <p:sp>
          <p:nvSpPr>
            <p:cNvPr id="111" name="Text Box 3"/>
            <p:cNvSpPr/>
            <p:nvPr/>
          </p:nvSpPr>
          <p:spPr>
            <a:xfrm>
              <a:off x="1314360" y="556272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2209680" y="574344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Facility Engineering &amp; Mainten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8"/>
            <p:cNvSpPr/>
            <p:nvPr/>
          </p:nvSpPr>
          <p:spPr>
            <a:xfrm>
              <a:off x="209520" y="5270400"/>
              <a:ext cx="8629560" cy="844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49"/>
            <p:cNvSpPr/>
            <p:nvPr/>
          </p:nvSpPr>
          <p:spPr>
            <a:xfrm>
              <a:off x="380880" y="531504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ovation and refurbishment normally one via establishment of an FF&amp;E rese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20"/>
          <p:cNvGrpSpPr/>
          <p:nvPr/>
        </p:nvGrpSpPr>
        <p:grpSpPr>
          <a:xfrm>
            <a:off x="457200" y="3295800"/>
            <a:ext cx="8153280" cy="2781000"/>
            <a:chOff x="457200" y="3295800"/>
            <a:chExt cx="8153280" cy="2781000"/>
          </a:xfrm>
        </p:grpSpPr>
        <p:sp>
          <p:nvSpPr>
            <p:cNvPr id="117" name="Rectangle 7"/>
            <p:cNvSpPr/>
            <p:nvPr/>
          </p:nvSpPr>
          <p:spPr>
            <a:xfrm>
              <a:off x="457200" y="3295800"/>
              <a:ext cx="8153280" cy="2781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Picture 9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37908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0"/>
            <p:cNvSpPr/>
            <p:nvPr/>
          </p:nvSpPr>
          <p:spPr>
            <a:xfrm>
              <a:off x="1009800" y="3689280"/>
              <a:ext cx="7448400" cy="22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furbishment and minor renovation is ongoing process in most hot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jor renovation should occur every six to ten ye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toration every 25 to 50 years, typic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restoration is not undertaken when needed, the hotel’s revenue-producing potential will likely decli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Picture 1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44766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7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485784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531504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19"/>
          <p:cNvGrpSpPr/>
          <p:nvPr/>
        </p:nvGrpSpPr>
        <p:grpSpPr>
          <a:xfrm>
            <a:off x="0" y="1600200"/>
            <a:ext cx="9448560" cy="914400"/>
            <a:chOff x="0" y="1600200"/>
            <a:chExt cx="9448560" cy="914400"/>
          </a:xfrm>
        </p:grpSpPr>
        <p:sp>
          <p:nvSpPr>
            <p:cNvPr id="124" name="Rectangle 2"/>
            <p:cNvSpPr/>
            <p:nvPr/>
          </p:nvSpPr>
          <p:spPr>
            <a:xfrm>
              <a:off x="167760" y="1600200"/>
              <a:ext cx="8853480" cy="9144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"/>
            <p:cNvSpPr/>
            <p:nvPr/>
          </p:nvSpPr>
          <p:spPr>
            <a:xfrm>
              <a:off x="0" y="1673280"/>
              <a:ext cx="9448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Restoration: returning a hotel to its original (or better than original) condi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Text Box 8"/>
          <p:cNvSpPr/>
          <p:nvPr/>
        </p:nvSpPr>
        <p:spPr>
          <a:xfrm>
            <a:off x="457200" y="3067200"/>
            <a:ext cx="2209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&amp; Renovation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24"/>
          <p:cNvGrpSpPr/>
          <p:nvPr/>
        </p:nvGrpSpPr>
        <p:grpSpPr>
          <a:xfrm>
            <a:off x="457200" y="4057560"/>
            <a:ext cx="8153280" cy="1828800"/>
            <a:chOff x="457200" y="4057560"/>
            <a:chExt cx="8153280" cy="1828800"/>
          </a:xfrm>
        </p:grpSpPr>
        <p:sp>
          <p:nvSpPr>
            <p:cNvPr id="130" name="Rectangle 17"/>
            <p:cNvSpPr/>
            <p:nvPr/>
          </p:nvSpPr>
          <p:spPr>
            <a:xfrm>
              <a:off x="457200" y="4057560"/>
              <a:ext cx="8153280" cy="18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Picture 19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45529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0"/>
            <p:cNvSpPr/>
            <p:nvPr/>
          </p:nvSpPr>
          <p:spPr>
            <a:xfrm>
              <a:off x="1009800" y="4451400"/>
              <a:ext cx="744840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dividuals with varying degrees of skills i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gineering / mechanics / plumbing / electricity / carpentry /  water treatment / landscaping / grounds mainte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23"/>
          <p:cNvGrpSpPr/>
          <p:nvPr/>
        </p:nvGrpSpPr>
        <p:grpSpPr>
          <a:xfrm>
            <a:off x="457200" y="1695600"/>
            <a:ext cx="8153280" cy="1828800"/>
            <a:chOff x="457200" y="1695600"/>
            <a:chExt cx="8153280" cy="1828800"/>
          </a:xfrm>
        </p:grpSpPr>
        <p:sp>
          <p:nvSpPr>
            <p:cNvPr id="134" name="Rectangle 6"/>
            <p:cNvSpPr/>
            <p:nvPr/>
          </p:nvSpPr>
          <p:spPr>
            <a:xfrm>
              <a:off x="457200" y="1695600"/>
              <a:ext cx="8153280" cy="18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21906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"/>
            <p:cNvSpPr/>
            <p:nvPr/>
          </p:nvSpPr>
          <p:spPr>
            <a:xfrm>
              <a:off x="1009800" y="2089080"/>
              <a:ext cx="74484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E&amp;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smaller hotels, hands-on role in the maintenance eff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larger hotels, more administrative r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Picture 11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6100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302904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 Box 7"/>
          <p:cNvSpPr/>
          <p:nvPr/>
        </p:nvSpPr>
        <p:spPr>
          <a:xfrm>
            <a:off x="457200" y="1467000"/>
            <a:ext cx="28195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ef engin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ffing the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457200" y="3828960"/>
            <a:ext cx="38862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tenance Assi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2880" y="2266920"/>
            <a:ext cx="1752480" cy="1638360"/>
            <a:chOff x="272880" y="2266920"/>
            <a:chExt cx="1752480" cy="1638360"/>
          </a:xfrm>
        </p:grpSpPr>
        <p:sp>
          <p:nvSpPr>
            <p:cNvPr id="144" name="Rectangle 8"/>
            <p:cNvSpPr/>
            <p:nvPr/>
          </p:nvSpPr>
          <p:spPr>
            <a:xfrm>
              <a:off x="355320" y="2266920"/>
              <a:ext cx="1528920" cy="1638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272880" y="2872800"/>
              <a:ext cx="175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ter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32"/>
          <p:cNvGrpSpPr/>
          <p:nvPr/>
        </p:nvGrpSpPr>
        <p:grpSpPr>
          <a:xfrm>
            <a:off x="1981080" y="2266920"/>
            <a:ext cx="7162920" cy="1638360"/>
            <a:chOff x="1981080" y="2266920"/>
            <a:chExt cx="7162920" cy="1638360"/>
          </a:xfrm>
        </p:grpSpPr>
        <p:sp>
          <p:nvSpPr>
            <p:cNvPr id="147" name="Rectangle 12"/>
            <p:cNvSpPr/>
            <p:nvPr/>
          </p:nvSpPr>
          <p:spPr>
            <a:xfrm>
              <a:off x="1981080" y="2266920"/>
              <a:ext cx="6705720" cy="1638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3"/>
            <p:cNvSpPr/>
            <p:nvPr/>
          </p:nvSpPr>
          <p:spPr>
            <a:xfrm>
              <a:off x="2374920" y="2305080"/>
              <a:ext cx="6769080" cy="14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wn care, landscaping, leaf and snow removal, window cleaning, and pain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taining hotel’s exterior impacts curb appeal, operating costs, &amp; ultimately the building’s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Picture 1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076480" y="239400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070000" y="312408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 Box 19"/>
          <p:cNvSpPr/>
          <p:nvPr/>
        </p:nvSpPr>
        <p:spPr>
          <a:xfrm>
            <a:off x="343080" y="1562040"/>
            <a:ext cx="819144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-to-day upkeep of both exterior and interior of buil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33"/>
          <p:cNvGrpSpPr/>
          <p:nvPr/>
        </p:nvGrpSpPr>
        <p:grpSpPr>
          <a:xfrm>
            <a:off x="1981080" y="4229280"/>
            <a:ext cx="6705720" cy="1276200"/>
            <a:chOff x="1981080" y="4229280"/>
            <a:chExt cx="6705720" cy="1276200"/>
          </a:xfrm>
        </p:grpSpPr>
        <p:sp>
          <p:nvSpPr>
            <p:cNvPr id="153" name="Rectangle 21"/>
            <p:cNvSpPr/>
            <p:nvPr/>
          </p:nvSpPr>
          <p:spPr>
            <a:xfrm>
              <a:off x="1981080" y="4229280"/>
              <a:ext cx="6705720" cy="1276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2"/>
            <p:cNvSpPr/>
            <p:nvPr/>
          </p:nvSpPr>
          <p:spPr>
            <a:xfrm>
              <a:off x="2413080" y="4286160"/>
              <a:ext cx="60451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door plants, interior window washing, floor and carpet clea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uestroom and public space related i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Picture 23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070000" y="438156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4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070000" y="512928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31"/>
          <p:cNvGrpSpPr/>
          <p:nvPr/>
        </p:nvGrpSpPr>
        <p:grpSpPr>
          <a:xfrm>
            <a:off x="272880" y="4246560"/>
            <a:ext cx="1752840" cy="1258920"/>
            <a:chOff x="272880" y="4246560"/>
            <a:chExt cx="1752840" cy="1258920"/>
          </a:xfrm>
        </p:grpSpPr>
        <p:sp>
          <p:nvSpPr>
            <p:cNvPr id="158" name="Rectangle 26"/>
            <p:cNvSpPr/>
            <p:nvPr/>
          </p:nvSpPr>
          <p:spPr>
            <a:xfrm>
              <a:off x="361800" y="4246560"/>
              <a:ext cx="1528920" cy="125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27"/>
            <p:cNvSpPr/>
            <p:nvPr/>
          </p:nvSpPr>
          <p:spPr>
            <a:xfrm>
              <a:off x="272880" y="4572000"/>
              <a:ext cx="1752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utine Mainten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8:44:46Z</dcterms:created>
  <dc:creator>Microlabs</dc:creator>
  <dc:description/>
  <dc:language>en-US</dc:language>
  <cp:lastModifiedBy>robert</cp:lastModifiedBy>
  <dcterms:modified xsi:type="dcterms:W3CDTF">2011-04-13T02:24:41Z</dcterms:modified>
  <cp:revision>50</cp:revision>
  <dc:subject/>
  <dc:title>Chapter 11 Facility Engineering &amp; Maintenance</dc:title>
</cp:coreProperties>
</file>